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F8A-E0FB-406B-B40D-588B1C85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86F7-D455-4D42-8A50-F2DD08C5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8D0-CBE2-46B7-9715-9B43A7A7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B879-21ED-4846-AB99-1BCBFBBF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075-1C83-4C9F-BFE2-6FFC1943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E73-7278-4DA1-8B10-633A0599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61B-1184-4D14-A8AE-9B591C84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01F-5A28-416E-AD8E-729FEABE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B52-5266-42DD-8502-A0DF82BA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FD2-FC7B-4407-8F82-B22F6927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AC3-0A9F-4DEC-8EE2-B4518ED9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D40-AB2A-422D-BA30-CD2A1BA7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B976-C91E-445C-AA4E-66C81CC8F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360" y="2438280"/>
            <a:ext cx="1935360" cy="208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8320" y="76320"/>
            <a:ext cx="2133360" cy="2077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572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2860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62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1:13:52Z</dcterms:created>
  <dc:creator>Danielle DeSumma</dc:creator>
  <dc:description/>
  <dc:language>en-US</dc:language>
  <cp:lastModifiedBy>Hempfield High School</cp:lastModifiedBy>
  <dcterms:modified xsi:type="dcterms:W3CDTF">2009-11-12T15:51:56Z</dcterms:modified>
  <cp:revision>4</cp:revision>
  <dc:subject/>
  <dc:title>Slide 1</dc:title>
</cp:coreProperties>
</file>